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C081-65A7-4E79-8124-9FEB26A15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F307-C62D-4EA0-8443-2E7992BBE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7B67-D5A6-41CE-9B17-D3C18EE55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BC97-4D68-4751-9808-95307A8D1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A025-30CB-46B7-9D33-9205B1768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033E-9772-4BBC-A2C4-852A363DD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91F1-20E3-4076-A490-62EDB8A23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86BA-42F1-46B7-8C06-47975F3C8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EF25-0C68-48FE-A9F8-300872D6A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39F6-E39E-427B-9DFB-91A8EC5C6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8060-4B29-413F-AED1-683D9F007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3820-4BF0-4BFE-94DB-C6E1D697C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D06A-3CED-4E36-AA55-D4DD9DFC23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921D-C853-4855-97BC-562B5A13BF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69A7-686A-42E6-AB95-6B151936ED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l_fi" descr="http://www.lancsngfl.ac.uk/secondary/math/images/library/Picture42Primet.png"/>
          <p:cNvPicPr/>
          <p:nvPr/>
        </p:nvPicPr>
        <p:blipFill>
          <a:blip r:embed="rId1"/>
          <a:srcRect l="8233" t="0" r="8428" b="11763"/>
          <a:stretch/>
        </p:blipFill>
        <p:spPr>
          <a:xfrm>
            <a:off x="1143000" y="53352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0603-8ABE-49E3-8ED5-B576D8CC1E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6" descr="http://gains-camppp.wikispaces.com/file/view/MathLearningWall.jpeg/310677630/MathLearningWall.jpeg"/>
          <p:cNvPicPr/>
          <p:nvPr/>
        </p:nvPicPr>
        <p:blipFill>
          <a:blip r:embed="rId1"/>
          <a:stretch/>
        </p:blipFill>
        <p:spPr>
          <a:xfrm>
            <a:off x="1600200" y="68580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806-FB91-4E51-AF6A-F585FC9959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990720" y="528480"/>
          <a:ext cx="718020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8480"/>
                    <a:ext cx="71802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s of Learning Wal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Learn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Electronic Learning Wall Using Pre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40FA-5B39-40FA-B8C0-92DF32D974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E36D-2141-47FF-8B6F-F7C38FD107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55600" y="1274760"/>
            <a:ext cx="8626320" cy="4119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61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ezi.com/learn/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lectronic Portfolio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Teacher Rob uses Evernote for Student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bin’s Evernote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AE07-F2D0-476E-A0C1-62782C1FCF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vernote for Schoo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B1CA-7C04-462F-9E29-347D9039D7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07920" y="1139760"/>
            <a:ext cx="740736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 and Buil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a unit from a course and plan an outline for a learning wall or portfol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can work on paper, or explore Prezi or Evern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could  explore CLIPS or e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 could also explore  or the camp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9EBB-C82B-4741-8900-1C078BF2B2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gratulations !!!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You have now completed 2 ½ out of 4 days of Math Campp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od  night </a:t>
            </a:r>
            <a:r>
              <a:rPr b="0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959E-7A30-4720-8026-565E8E863C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the idea of assessment of learning as being more a process then an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use this idea in your classroom next y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2041-32E8-4F3D-A80B-E47C4C173C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ssessment of learning (summative assessment) as a continuous iterative process, no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learning walls and portfolios and their connection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learning walls and portfolios using differ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BEE5-D55F-4CCE-AA1C-F9FEE8E9E8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ACB-41EF-4FF2-BB7E-7AB334F540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sessment of Learning 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r. D en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7758-E6BD-4764-9D57-937E3823DC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                           </a:t>
            </a:r>
            <a:r>
              <a:rPr b="0" lang="en-CA" sz="4400" spc="-1" strike="noStrike">
                <a:solidFill>
                  <a:srgbClr val="2b5ca9"/>
                </a:solidFill>
                <a:latin typeface="Wingdings"/>
                <a:ea typeface="Wingdings"/>
              </a:rPr>
              <a:t></a:t>
            </a: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the plenary session, Chris made the statement:  “Summative assessment – a process, not an ev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ould you respond to that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F505-E303-4F1F-A966-5E7ED6EAA2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6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.  Think of a  Math course. What might a portfolio for this cour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B responds first, then Line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3FB6-93B3-42C4-BDD1-FA82958763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ed Da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.  Could a “fractions” portfolio support integration of fraction concepts throughout a course?  What do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ine A responds first, then Line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6E5F-1E51-40B9-9DE4-FC514AE63D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earning Wal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ve you used a learning wall, or any features of a learning wall, in your class?  What features did you incl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s your learning wall effective? 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think are some key ingredients of a learning 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D589-0A31-40FD-8709-A1862D77A2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8B9C-C42A-4435-8732-9A29699C3F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5" descr="http://swiftclasstmhp.primaryblogger.co.uk/files/2011/09/DSCF3088.jpg"/>
          <p:cNvPicPr/>
          <p:nvPr/>
        </p:nvPicPr>
        <p:blipFill>
          <a:blip r:embed="rId1"/>
          <a:srcRect l="0" t="0" r="0" b="18755"/>
          <a:stretch/>
        </p:blipFill>
        <p:spPr>
          <a:xfrm>
            <a:off x="914400" y="5335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EF39-2A86-4AAE-965F-0F33F60ECC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6" descr="http://swiftclasstmhp.primaryblogger.co.uk/files/2011/09/DSCF3089.jpg"/>
          <p:cNvPicPr/>
          <p:nvPr/>
        </p:nvPicPr>
        <p:blipFill>
          <a:blip r:embed="rId1"/>
          <a:srcRect l="4495" t="0" r="13484" b="0"/>
          <a:stretch/>
        </p:blipFill>
        <p:spPr>
          <a:xfrm>
            <a:off x="1752480" y="380880"/>
            <a:ext cx="53341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5T22:32:48Z</dcterms:modified>
  <cp:revision>42</cp:revision>
  <dc:subject/>
  <dc:title>&lt;Title&gt;</dc:title>
</cp:coreProperties>
</file>